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198-F719-4D26-B7E7-9CD97FC5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DD8-8913-4BBF-910A-4AE219C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94E-0728-4B99-A25B-AEF9BFEC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362-4FBD-4E76-B853-0DA68EA7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B75-A3E9-4815-8E4A-02F0529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500-031A-4A98-82EB-ACCB1599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3F2-A673-4894-834D-6EC4B90A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EDB-2382-4466-9C76-5D288A2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352-994F-46F8-800C-E380257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EAD-8560-4770-A3A2-ABBEA07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1E0-FD68-47BC-8A24-0850F48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66C-5A30-43A9-826F-0FE0091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B78-246F-415C-96B0-2CA36C477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rgiahistory.com/nineteen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ia/part3/3h1522b.html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act of the cotton gin on American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f the following inventions has had the largest impact on American society? Pick one, and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97180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(fill in the bl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971800"/>
            <a:ext cx="2590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t was difficult to make a profit from cotton because cottonseeds were removed by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tton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43200"/>
            <a:ext cx="622944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4876920"/>
            <a:ext cx="2514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tton Ball, picked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) It took one person an entire day to clean one pound of co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Eli Whitney invent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7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Eli Whitney's Cotton Gin">
            <a:hlinkClick r:id="rId2"/>
          </p:cNvPr>
          <p:cNvPicPr/>
          <p:nvPr/>
        </p:nvPicPr>
        <p:blipFill>
          <a:blip r:embed="rId3"/>
          <a:srcRect l="9172" t="7813" r="20536" b="6249"/>
          <a:stretch/>
        </p:blipFill>
        <p:spPr>
          <a:xfrm>
            <a:off x="0" y="571680"/>
            <a:ext cx="3543480" cy="628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li Whitney’s cotton 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59040" y="609480"/>
            <a:ext cx="54849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81480" y="54849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Whitney never became wealthy from his inv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0" b="7819"/>
          <a:stretch/>
        </p:blipFill>
        <p:spPr>
          <a:xfrm>
            <a:off x="0" y="533520"/>
            <a:ext cx="5018040" cy="632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30640" y="457200"/>
            <a:ext cx="4113360" cy="411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Whitney applied for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t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cotton 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4197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eople ignored the patent and built thei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ation owners began to earn a lot of money growing cott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0" b="6492"/>
          <a:stretch/>
        </p:blipFill>
        <p:spPr>
          <a:xfrm>
            <a:off x="0" y="1825560"/>
            <a:ext cx="7093080" cy="50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600" y="4038480"/>
            <a:ext cx="205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Cotton Gin" (image from 186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used farmers to increase their dependency on slave lab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520" y="1554120"/>
            <a:ext cx="8226360" cy="530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 tribes such as the Cherokees and Creeks were forced o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that farmers would have more land to grow cott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3:48:00Z</dcterms:created>
  <dc:creator> LPS</dc:creator>
  <dc:description/>
  <dc:language>en-US</dc:language>
  <cp:lastModifiedBy>Adam Berlin</cp:lastModifiedBy>
  <dcterms:modified xsi:type="dcterms:W3CDTF">2008-02-24T04:23:30Z</dcterms:modified>
  <cp:revision>12</cp:revision>
  <dc:subject/>
  <dc:title>PowerPoint Presentation</dc:title>
</cp:coreProperties>
</file>